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145040" y="-36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lstStyle>
            <a:lvl1pPr indent="0" algn="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  <a:defRPr b="1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239840" y="725400"/>
            <a:ext cx="4836960" cy="3627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974880" y="4594320"/>
            <a:ext cx="5365440" cy="427176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0" y="910728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  <a:defRPr b="1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4145040" y="910728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lstStyle>
            <a:lvl1pPr indent="0" algn="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  <a:defRPr b="1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14C19104-9DEE-4AD0-BF8E-009DB6BC2B85}" type="slidenum">
              <a:rPr b="1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145040" y="910728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fld id="{BDBE85BB-0F25-46CE-B27D-8382C996144F}" type="slidenum">
              <a:rPr b="1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0" y="910728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b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0" y="-36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145040" y="-360"/>
            <a:ext cx="3170160" cy="48420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69840"/>
                <a:tab algn="l" pos="1940040"/>
                <a:tab algn="l" pos="2909880"/>
                <a:tab algn="l" pos="3879720"/>
                <a:tab algn="l" pos="4849920"/>
                <a:tab algn="l" pos="5819760"/>
                <a:tab algn="l" pos="6789600"/>
                <a:tab algn="l" pos="7759800"/>
                <a:tab algn="l" pos="8729640"/>
                <a:tab algn="l" pos="9699480"/>
                <a:tab algn="l" pos="106696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351080" y="8967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F75A-45F9-40EC-BFA6-5F7E0168B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1BAC-25E4-4566-9519-C5AC5949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AAA2-906B-441D-A013-120D3E4CB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FDCE-F41F-4229-825E-915C338A1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B717-F082-443E-A037-40F1D326E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95F3-DCB9-4164-A1F0-63ED8371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12A8-6FF6-401B-BF1E-D452892B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2157-6D8E-48E0-B18B-0950BB8AA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0" y="-6480"/>
            <a:ext cx="9144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680F-5DB7-4DF3-834D-AC62CC0D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AA74-617B-4E84-ACD5-3B1BC7CB5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F0D4-745D-47E3-BEC9-BF88072D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2EB5-5716-4836-8395-51627C48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E650-01A8-4491-8428-FFCDFDD578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468360" y="1125360"/>
            <a:ext cx="8207280" cy="216000"/>
            <a:chOff x="468360" y="1125360"/>
            <a:chExt cx="8207280" cy="216000"/>
          </a:xfrm>
        </p:grpSpPr>
        <p:sp>
          <p:nvSpPr>
            <p:cNvPr id="6" name=""/>
            <p:cNvSpPr/>
            <p:nvPr/>
          </p:nvSpPr>
          <p:spPr>
            <a:xfrm>
              <a:off x="468360" y="1125360"/>
              <a:ext cx="8207280" cy="216000"/>
            </a:xfrm>
            <a:prstGeom prst="rect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68360" y="1125360"/>
              <a:ext cx="216000" cy="216000"/>
            </a:xfrm>
            <a:prstGeom prst="rect">
              <a:avLst/>
            </a:prstGeom>
            <a:solidFill>
              <a:srgbClr val="ff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4360" y="1125360"/>
              <a:ext cx="215640" cy="216000"/>
            </a:xfrm>
            <a:prstGeom prst="rect">
              <a:avLst/>
            </a:prstGeom>
            <a:solidFill>
              <a:srgbClr val="0000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00000" y="1125360"/>
              <a:ext cx="216000" cy="216000"/>
            </a:xfrm>
            <a:prstGeom prst="rect">
              <a:avLst/>
            </a:prstGeom>
            <a:solidFill>
              <a:srgbClr val="00ff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116000" y="1125360"/>
              <a:ext cx="216000" cy="216000"/>
            </a:xfrm>
            <a:prstGeom prst="rect">
              <a:avLst/>
            </a:prstGeom>
            <a:solidFill>
              <a:srgbClr val="ff33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459640" y="1125360"/>
              <a:ext cx="216000" cy="216000"/>
            </a:xfrm>
            <a:prstGeom prst="rect">
              <a:avLst/>
            </a:prstGeom>
            <a:solidFill>
              <a:srgbClr val="ff33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855440"/>
            <a:ext cx="8610480" cy="200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Metrics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0" y="3933720"/>
            <a:ext cx="9144000" cy="29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hael Bol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S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developsens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s Canada IT Con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iscover facts about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eer our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odify human beh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 Tom DeMar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4724280"/>
            <a:ext cx="8497800" cy="94716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rco wonders if we, as an industry, are too focused on behaviour modificati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340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iscover natural laws (third-order measur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fine and to tune (second-order measur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get the damned thing built (first-order measure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- Jerry Weinbe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5373720"/>
            <a:ext cx="8642160" cy="119124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nberg suggests that, as an industry, we’re obsessed with trying to make third- and second-order measurements, when first-order measurements are more often what we ne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94920" y="3886200"/>
            <a:ext cx="8062920" cy="22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ty measurement depends up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skill at observa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’re comparing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he validity of the model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we’re using for assess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042560" y="3886200"/>
            <a:ext cx="6985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s and assessments aren’t necessarily numer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ine #3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79280" y="3886200"/>
            <a:ext cx="878544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s aren’t as descriptiv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words and stories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s can be vague or ambiguou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numbers without clarifying word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just as bad or wo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39640" y="3885840"/>
            <a:ext cx="813456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in our field make sweeping, pseudo-statistical generalizations without proposing a measurement mod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671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670200"/>
            <a:ext cx="6400800" cy="24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eople in the testing and quality field haven’t studied measurement theory or statistics, but some of us are asked to implement measurement programs anyw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often validate our assumptions with trivial surveys and ana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statistical work depends on isolating the dependent variables, and reducing or controlling the independent (free) variab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8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software development metrics, identifying the dependent variables is tough, and reducing or controlling all of the independent (free) variables is effectively impos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Metrics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determined that there are large numbers of mines buried in the metrics minefie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9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omething can’t be proven, making predictions about it is somehow unsatisf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7128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mmon method of calculating risk as “impact times probability”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just wei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untold numbers of biases and errors involved with collecting and analyzing metric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2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metrics see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specially subjec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ification erro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3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11280" y="3886200"/>
            <a:ext cx="7850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istics is usually a sampling exercise.  It’s easy to sample bad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4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97128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e collect metrics on projects, we tend to leave out certain pro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5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rics often outlive their useful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6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metrics are focused on tracking cost.  Few metrics are oriented towards tracking benefi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7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trics are collected for someone’s purpose.  The metrics can and will be gamed to further that purpo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8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sometimes li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they sometimes leave out the truth.  Or they provide an answer that they think the questioner wants to h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Metrics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report on what some of our best minesweepers have discovered so far, with a few suggestions on how we might avoid or clear some of the mi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9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e measure people, they change their behaviour in ways that we might not expect or int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2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899640" y="3886200"/>
            <a:ext cx="7342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order for statistics to work properly, we need a good population size and a good sample siz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2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6985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ademic researchers, whom we might expect to do better science, can do som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al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hoddy sci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earing the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3886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of the following idea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heuristic approach;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uggestion, not an instr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earing the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produce, offer or accept a number without a com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give a number to a bureaucra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um’s Second La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hasize stories and narr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earing the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351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ntrol metric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are linked to pay, bonuses, performance evaluation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metrics are metrics that trigger some action, usually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etric that is used to control something will eventually be used to control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ster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quiry metr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quiry metrics are metrics that prompt us to ask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lax measurement when the metric stops cha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results aren’t satisfactory, try measuring something else for a 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fer Assessment to Measure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eel that you have to render everything into a numeric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servation can go directly to assessment without quantified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modes, beside numerical ones, can you use to assess progre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ther Modes of Assessmen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standup meetings or scru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 meetings that identify needs for further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laddering exerc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king, rather than measu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emperature rea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rec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zz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pes and wish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ze the ways in which data can be converted to information, and vice ve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earing the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Always ask “Compared to what?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ding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lity Software Management, Vol. 2., “First Order Measurem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rald M. Weinbe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Lie with Stat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rell Hu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 Expla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ward Tuf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akonom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hen Leavit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Metrics Minefield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7772400" cy="256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tention is not to suggest that metrics are useless, but to identify some examples of gross dysfunction, and to try to avoid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ading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Software Cost So Mu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m DeMar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s of Critical Thin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Le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ngineering Metrics:  What Do They Measure and How Do We Know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m Kaner and Walter P.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kaner.com/pdfs/metrics2004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ne #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68360" y="3886200"/>
            <a:ext cx="79898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r field sometimes seems obsessed with metrics, but doesn’t seem to pay much attention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easurement valid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at Do Metrics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34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Engineering Metrics:  What Do They Measure and How Do We Know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-authored by Cem Kaner and Walter P.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several definitions of measurement, most of which seem to amount to “using numbers to describe something” or “putting a number on some attribut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ner and Bond’s synthesized defini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5084640"/>
            <a:ext cx="8642160" cy="1410120"/>
          </a:xfrm>
          <a:prstGeom prst="rect">
            <a:avLst/>
          </a:prstGeom>
          <a:solidFill>
            <a:srgbClr val="ff99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is the empirical, objective assignment of numbers, according to a rule derived from a model or theory, to attributes of objects or events with the intent of describing them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ow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557000"/>
            <a:ext cx="77724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always has some model lurking in the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ric models are based on some comparison, which may be explicit or implic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th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individual things with each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individual things with a refer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individual things with elements in a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e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 things over time (ra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ate derivative metrics by performing multiple measurements and comparisons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68360" y="3886200"/>
            <a:ext cx="8207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icit in our motive for measurement i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model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ssess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ed on s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omparis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in accordance with s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observ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648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hy Do We Measure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676160"/>
            <a:ext cx="8353440" cy="42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ing private self-assessment and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ng project status (to facilitate management of the project or related projec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ng staff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ing others (e.g. potential customers) about the characteristics (such as development status or behavior) of th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ing external authorities (e.g. regulators or litigators) about the characteristics of the prod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 Kaner and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21:42:32Z</dcterms:created>
  <dc:creator>Michael Bolton</dc:creator>
  <dc:description/>
  <dc:language>en-US</dc:language>
  <cp:lastModifiedBy>Al Lebeau</cp:lastModifiedBy>
  <dcterms:modified xsi:type="dcterms:W3CDTF">2007-03-23T17:14:27Z</dcterms:modified>
  <cp:revision>99</cp:revision>
  <dc:subject/>
  <dc:title>Exploring Exploratory Tes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88152116</vt:r8>
  </property>
  <property fmtid="{D5CDD505-2E9C-101B-9397-08002B2CF9AE}" pid="3" name="_AuthorEmail">
    <vt:lpwstr>Ruth.Neveu@a.statcan.ca</vt:lpwstr>
  </property>
  <property fmtid="{D5CDD505-2E9C-101B-9397-08002B2CF9AE}" pid="4" name="_AuthorEmailDisplayName">
    <vt:lpwstr>Neveu, Ruth - BTS/SCE</vt:lpwstr>
  </property>
  <property fmtid="{D5CDD505-2E9C-101B-9397-08002B2CF9AE}" pid="5" name="_EmailSubject">
    <vt:lpwstr>IT conference</vt:lpwstr>
  </property>
  <property fmtid="{D5CDD505-2E9C-101B-9397-08002B2CF9AE}" pid="6" name="_PreviousAdHocReviewCycleID">
    <vt:r8>1235638151</vt:r8>
  </property>
</Properties>
</file>